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A28-6107-47E4-8561-92539645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CFA-072A-4D8B-A2A0-6A9D3E31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B26A-10F7-4FCC-9CD6-3C961B87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AEC-FD29-458C-A6B3-424744B6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45E-99FC-4671-9F55-0EC87F20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534-A87E-4489-8761-3C21C83E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1E0-6AEA-4047-88FB-441E0AD3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3B8-E416-4CDC-8114-E86E8608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3759-7F94-44FA-BF34-37FBC3A1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DF5-1967-4D4F-A1E5-2061A6D6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2DE-F951-4406-9314-590987F6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FC6-A969-4147-BCE8-9C94C92A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39EA-CCA0-4D23-BD33-47561FAA5879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57120" y="2714760"/>
            <a:ext cx="84297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CONSIGNES 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ur chaque diapositive, il y 2 propositions de réponses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l n’y a qu’une seule proposition de vraie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ous devez entourer la bonne proposition sur la grille papier qui vous est fournie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Remerciements à l’INRS pour la quasi totalité des photos illustrant ces diapositiv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2" name="Image 5" descr="Image1.jpg"/>
          <p:cNvPicPr/>
          <p:nvPr/>
        </p:nvPicPr>
        <p:blipFill>
          <a:blip r:embed="rId1"/>
          <a:stretch/>
        </p:blipFill>
        <p:spPr>
          <a:xfrm>
            <a:off x="6804000" y="404640"/>
            <a:ext cx="950760" cy="1090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3" name="Image 7" descr="Image3.jpg"/>
          <p:cNvPicPr/>
          <p:nvPr/>
        </p:nvPicPr>
        <p:blipFill>
          <a:blip r:embed="rId2"/>
          <a:stretch/>
        </p:blipFill>
        <p:spPr>
          <a:xfrm>
            <a:off x="7885080" y="404640"/>
            <a:ext cx="755640" cy="107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4" name="Text Box 7"/>
          <p:cNvSpPr/>
          <p:nvPr/>
        </p:nvSpPr>
        <p:spPr>
          <a:xfrm>
            <a:off x="533520" y="380880"/>
            <a:ext cx="466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8" descr="carsat_nordpicardie.jpg"/>
          <p:cNvPicPr/>
          <p:nvPr/>
        </p:nvPicPr>
        <p:blipFill>
          <a:blip r:embed="rId3"/>
          <a:stretch/>
        </p:blipFill>
        <p:spPr>
          <a:xfrm>
            <a:off x="4932360" y="404640"/>
            <a:ext cx="1727280" cy="50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dans un bur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e câbles électriques 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existe un risque de chute de plain-p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ersonne a l’habitude de la présence de ces câbles et ne risque donc 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Espace réservé du contenu 11" descr="Circulation bureau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8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ation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dispositif permet de vérifier la présence de courant dans 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dispositif empêche la mise sous tension accidentelle d’une parti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Espace réservé du contenu 14" descr="Condamnation électriqu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u maître d’ouvrage et du maître d’œuvre sur l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s personnes ne doivent pas porter de casque de chantier. Elles sont protégé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le filet de sécurité tendu au dessus d’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s personnes doiven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Espace réservé du contenu 11" descr="Chantier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pements de protection individu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 dans une zone bruy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niveau sonore à risque est fixé réglementairement à 8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niveau sonore à risque est fixé réglementairement à 9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Espace réservé du contenu 12" descr="EPI.jpg"/>
          <p:cNvPicPr/>
          <p:nvPr/>
        </p:nvPicPr>
        <p:blipFill>
          <a:blip r:embed="rId1"/>
          <a:srcRect l="0" t="0" r="7391" b="0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 de chargement et déchargement de camions dans une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camion devrait être stationné dans la zone délimitée par le cadre blanc pei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Réglementairement, le cadre peint au sol devrait être de couleur ja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Espace réservé du contenu 11" descr="CACP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ten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hargement d’une palet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n’encourt pas de risque particulier du fait que les cartons pèse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ns de 25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pérateur risque un lumb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Espace réservé du contenu 11" descr="3M 1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’une salle de b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est obligatoire d’utiliser de l’eau de javel pour nettoyer une salle de b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aide à domicile travaille dans une position inconfor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Espace réservé du contenu 11" descr="Aide a domicil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du b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es vêtements à l’aide d’une soufflette en fin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Si l’ouvrier ferme bien les yeux il n’y a pas de risque particu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risque u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Espace réservé du contenu 11" descr="Souflett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e nacelle élévatrice lors d’une intervention sur un lumin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a rue devrait être interdite à la circulation pendant ces trav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résence d’un opérateur situé au sol est obligatoire lors de l’utilisation d’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Espace réservé du contenu 11" descr="Nacelle élévatric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inture par pulvér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eintre risque une maladie professionnelle de l’épaule si il réalis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ulièrement ce typ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eintre porte tous ses équipements de protection individuelle. Il ne risqu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Espace réservé du contenu 11" descr="Peinture pistolet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Espace réservé du contenu 3" descr="Image4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9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travail ne présente pas de risque particu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travail génère du str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d’intervention S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uvetage secourisme du trav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ictogramme signifie qu’il faut mettre la victime en position latéral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ictogramme signifie que la victime ne respire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Image 10" descr="PLS.jpg"/>
          <p:cNvPicPr/>
          <p:nvPr/>
        </p:nvPicPr>
        <p:blipFill>
          <a:blip r:embed="rId1"/>
          <a:stretch/>
        </p:blipFill>
        <p:spPr>
          <a:xfrm>
            <a:off x="714240" y="142920"/>
            <a:ext cx="3643560" cy="35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7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d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érateur est monté sur la structure pour réaliser la sou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soudeur risque une ch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soudeur risque de déformer la pièce sur laquelle il est mon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Espace réservé du contenu 11" descr="Soudage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téléphone portable en condui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usage d’un téléphone portable en conduisant n’est autorisé que pour l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ls professionn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usage d’un téléphone portable en conduisant est inter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Espace réservé du contenu 11" descr="Conduite téléphone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 d’encaissement dans un hypermarch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ack de bouteilles d’eau pèse 9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n’y a pas de recommandation particulière concernant la manutention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 d’eau du fait qu’il pèse moins de 12,5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ack d’eau devrait être laissé dans le chariot pour passer en cai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Espace réservé du contenu 11" descr="Caissièr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8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6"/>
          <p:cNvSpPr/>
          <p:nvPr/>
        </p:nvSpPr>
        <p:spPr>
          <a:xfrm>
            <a:off x="5286240" y="1500120"/>
            <a:ext cx="3500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âtiment et 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 relatives aux accidents de chute de hauteur avec arrê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lus grand nombre d’accidents de ce type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chutes lors de l’utilisation d’échafaud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chutes lors de l’utilisation d’escabeaux ou d’éch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 15" descr="Stats btp vide.jpg"/>
          <p:cNvPicPr/>
          <p:nvPr/>
        </p:nvPicPr>
        <p:blipFill>
          <a:blip r:embed="rId1"/>
          <a:stretch/>
        </p:blipFill>
        <p:spPr>
          <a:xfrm>
            <a:off x="214200" y="142920"/>
            <a:ext cx="46450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 véhicule utilitaire léger (moins de 3,5 ton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faut être titulaire d’un permis poids-lourd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permis B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Espace réservé du contenu 11" descr="VUL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1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isation en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anneau signifie qu’il y a obligation de faire demi-t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anneau avertit de la présence d’un champ magnétique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Espace réservé du contenu 11" descr="Champ magnétique.jpg"/>
          <p:cNvPicPr/>
          <p:nvPr/>
        </p:nvPicPr>
        <p:blipFill>
          <a:blip r:embed="rId1"/>
          <a:stretch/>
        </p:blipFill>
        <p:spPr>
          <a:xfrm>
            <a:off x="571680" y="142920"/>
            <a:ext cx="3805200" cy="355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8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uration rap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cette profession le plus grand nombre d’accidents avec arrêt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glissades et chutes de plain-pi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manutentions manuel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Espace réservé du contenu 11" descr="stat resto vide.jpg"/>
          <p:cNvPicPr/>
          <p:nvPr/>
        </p:nvPicPr>
        <p:blipFill>
          <a:blip r:embed="rId1"/>
          <a:srcRect l="10879" t="0" r="754" b="11116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automo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pont élévateur de voiture à deux colon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exercer un appui maintenu sur la commande tout le temp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un second opérateur pour manœuvrer ce pont élévateur en tout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Espace réservé du contenu 11" descr="Garage 1.jpg"/>
          <p:cNvPicPr/>
          <p:nvPr/>
        </p:nvPicPr>
        <p:blipFill>
          <a:blip r:embed="rId1"/>
          <a:stretch/>
        </p:blipFill>
        <p:spPr>
          <a:xfrm>
            <a:off x="142920" y="142920"/>
            <a:ext cx="4735440" cy="3524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he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fiches de postes doivent être stockées dans le bureau du chef d’ate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Une fiche de poste reprend les consignes de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mage 13" descr="fiche.jpg"/>
          <p:cNvPicPr/>
          <p:nvPr/>
        </p:nvPicPr>
        <p:blipFill>
          <a:blip r:embed="rId1"/>
          <a:stretch/>
        </p:blipFill>
        <p:spPr>
          <a:xfrm>
            <a:off x="142920" y="142920"/>
            <a:ext cx="483876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8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hant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Tous les ouvriers des Travaux Publics peuvent conduire ces eng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certificat de conduite à la sécurité (CACES) pou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re un 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Espace réservé du contenu 11" descr="Image1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iquetage des produits chim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étiquetage signifie que le produit est inflamm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étiquetage signifie que ce produit est un combur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Espace réservé du contenu 11" descr="Chimie 1.jpg"/>
          <p:cNvPicPr/>
          <p:nvPr/>
        </p:nvPicPr>
        <p:blipFill>
          <a:blip r:embed="rId1"/>
          <a:stretch/>
        </p:blipFill>
        <p:spPr>
          <a:xfrm>
            <a:off x="785880" y="142920"/>
            <a:ext cx="35002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4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à la sécurité des nouveaux 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y a obligation de formation à la sécurité au poste de travail pour les nouveaux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Si le nouvel embauché est titulaire d’un diplôme de l’enseignement technique,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’y a pas d’obligation de formation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Espace réservé du contenu 11" descr="accrochetuteur.jpg"/>
          <p:cNvPicPr/>
          <p:nvPr/>
        </p:nvPicPr>
        <p:blipFill>
          <a:blip r:embed="rId1"/>
          <a:stretch/>
        </p:blipFill>
        <p:spPr>
          <a:xfrm>
            <a:off x="1000080" y="142920"/>
            <a:ext cx="3000600" cy="3521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0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28760" y="2142720"/>
            <a:ext cx="82864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9, selon les chiffres de la Sécurité Sociale, combien y a-t-il eu de maladies professionnelles mortelles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9, selon les chiffres de la Sécurité Sociale, combien y a-t-il eu d’accidents mortels dans les activités du bâtiment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457200" y="152280"/>
            <a:ext cx="466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doi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ne risque rien tant qu’il reste à l’extérieur du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Espace réservé du contenu 11" descr="Chantier second oeuvr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d’intervention S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ictogramme signifie que la victime resp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ictogramme signifie que la victime par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 10" descr="Respire.jpg"/>
          <p:cNvPicPr/>
          <p:nvPr/>
        </p:nvPicPr>
        <p:blipFill>
          <a:blip r:embed="rId1"/>
          <a:stretch/>
        </p:blipFill>
        <p:spPr>
          <a:xfrm>
            <a:off x="642960" y="142920"/>
            <a:ext cx="3643200" cy="3541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2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e en charge d’un chariot automoteur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être titulaire d’une habilitation électrique pour réaliser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y a un risque d’explosion lors de cette opé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Espace réservé du contenu 11" descr="Charge d'un CACP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Espace réservé du contenu 11" descr="Préparation de commande 1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paration de commande dans un entrepô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risque de souffrir d’un trouble musculo-squelettique (TMS) si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le fréquemment dans cette pos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réglementation impose le port de chaussures de sécurité  pour cette 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droit avec flèche 14"/>
          <p:cNvCxnSpPr/>
          <p:nvPr/>
        </p:nvCxnSpPr>
        <p:spPr>
          <a:xfrm flipH="1" flipV="1">
            <a:off x="2642400" y="2214360"/>
            <a:ext cx="71532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Text Box 10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situé sur l’escabeau risque une chute de haute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réglementation interdit de travailler en sh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Espace réservé du contenu 11" descr="Chantier 1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tion d’une entreprise extérie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travaillant sur l’échafaudage vert n’est pas protégé contre les chut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hau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sur l’échafaudage devrait s’accrocher au garde corps pour avoi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lleure stabi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Espace réservé du contenu 11" descr="Chantier second oeuvre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4:48:17Z</dcterms:created>
  <dc:creator>Claude</dc:creator>
  <dc:description/>
  <dc:language>en-US</dc:language>
  <cp:lastModifiedBy>Claude</cp:lastModifiedBy>
  <dcterms:modified xsi:type="dcterms:W3CDTF">2011-01-24T15:04:56Z</dcterms:modified>
  <cp:revision>144</cp:revision>
  <dc:subject/>
  <dc:title>Olympiades</dc:title>
</cp:coreProperties>
</file>